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76235"/>
        <c:axId val="39180675"/>
      </c:barChart>
      <c:catAx>
        <c:axId val="68276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0675"/>
        <c:crosses val="autoZero"/>
        <c:auto val="1"/>
        <c:lblAlgn val="ctr"/>
        <c:lblOffset val="100"/>
        <c:noMultiLvlLbl val="0"/>
      </c:catAx>
      <c:valAx>
        <c:axId val="39180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6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96F-5C24-45ED-B71F-9A2D75E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FA9-43C7-436E-8F7A-86AEE83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4BF-5580-4F76-B82A-22F2BCF9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BC4-4F02-4BF1-A308-5D452E1A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D4D-27EE-42DB-92D8-E4E4DEF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ED6-C6E5-4A04-B87A-D5E524FF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E68-7773-430D-B1AF-FCB3C2B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5F7-EA03-4616-BC7C-C1AE456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C80-058F-4DDA-B4BE-326DB966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7B7-E0C0-4848-99A4-536DFCB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E98-81B1-43A0-A405-3848532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28D-36B3-4775-B5E6-F886966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83BC7-64D7-4884-BD64-567177628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