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77950"/>
        <c:axId val="89178106"/>
      </c:barChart>
      <c:catAx>
        <c:axId val="43077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8106"/>
        <c:crosses val="autoZero"/>
        <c:auto val="1"/>
        <c:lblAlgn val="ctr"/>
        <c:lblOffset val="100"/>
        <c:noMultiLvlLbl val="0"/>
      </c:catAx>
      <c:valAx>
        <c:axId val="89178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7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08C-F1D5-4DD9-8F12-FCE79D9A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A84-CC2D-4689-860E-44F7C09C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F06-C3A4-4A8D-9525-2166AFB5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4AE-7399-4EBE-A12D-1767D635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01D-5C1C-4F77-B8E3-357ED4B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FCF-8125-4CD5-94A0-68A5234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AEF-A572-4BCC-8F30-3E1CD5C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C97-7572-4F1D-8D4E-929FB16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17A-4EF3-4F61-99D8-74AB236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B2D-7CD4-4B5B-A428-7164809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052-F7D8-4385-AE06-D11C71D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EB9-EE9C-4B72-9D66-C962DF5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0BFA6-22FE-4022-9938-758C54A920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