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509543"/>
        <c:axId val="41079249"/>
      </c:barChart>
      <c:catAx>
        <c:axId val="185095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79249"/>
        <c:crosses val="autoZero"/>
        <c:auto val="1"/>
        <c:lblAlgn val="ctr"/>
        <c:lblOffset val="100"/>
        <c:noMultiLvlLbl val="0"/>
      </c:catAx>
      <c:valAx>
        <c:axId val="410792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095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29BF-43A1-4E65-B8F1-AE833C71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1B30-F953-41C1-8A99-F9ABACAD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3D8F-A364-40FD-B2FC-6EAB1561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9B7B-872B-4DB1-BBDA-A6FFD9224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BEE9-B4E8-4424-957D-A151DFDB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0E4C-25F1-496A-8B9B-FA948909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3B00-F368-4A16-A502-CC07D44A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68EC-DC7D-452C-B73E-20AEDAA4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F00E-40C4-489F-8E32-E5EBD6B4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50A6-0BA3-43E1-888D-378EF379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4E71-13A0-43B8-9A30-9A9E5F56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860A-37D9-45CB-BC6A-9C918ABF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242C6-6FA2-4A2E-AACB-888F57CC59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