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5846"/>
        <c:axId val="43708684"/>
      </c:barChart>
      <c:catAx>
        <c:axId val="7395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08684"/>
        <c:crosses val="autoZero"/>
        <c:auto val="1"/>
        <c:lblAlgn val="ctr"/>
        <c:lblOffset val="100"/>
        <c:noMultiLvlLbl val="0"/>
      </c:catAx>
      <c:valAx>
        <c:axId val="43708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5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99B-7D63-4658-986B-766036A9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F0C-3D89-44F4-9DBC-BE55E7BE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3A-D43D-48E1-B23C-707E8359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B26-DCD7-4305-995C-7FDB743F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9AE-251A-46A7-9B93-A11DFEE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5CB-44A2-4C1D-BA28-ADC67C5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A0F-7C03-44E1-BF4D-7D41B7E0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DF3-F75B-4263-B770-428D00F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3A6-C6A2-4A35-9205-FF93367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F6B-A7E2-48EA-B066-2D64F37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184-DFAA-4CDD-B6BA-0AD02006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14C-6F58-4A1C-B333-1B26670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9A5A6-B0BB-4C6E-9948-FEF1464C2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