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9858"/>
        <c:axId val="33459961"/>
      </c:barChart>
      <c:catAx>
        <c:axId val="956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9961"/>
        <c:crosses val="autoZero"/>
        <c:auto val="1"/>
        <c:lblAlgn val="ctr"/>
        <c:lblOffset val="100"/>
        <c:noMultiLvlLbl val="0"/>
      </c:catAx>
      <c:valAx>
        <c:axId val="33459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422-4437-46EB-A292-EE992C3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FF0-B3A4-4E6A-8BDF-80573C1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DE2-3DB9-4ADC-85BD-13C4DFC0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BC-0BE9-4E83-88EF-9969A511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1E1-110D-4C7D-B084-C7DBA5F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CA1-639A-4E62-BE61-B76F367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254-5854-442A-90B8-5D101743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A88-F236-4943-AFAA-4829B59D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9CF-083C-45C4-9F06-75A08AA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BA3-3753-4DFA-A9B3-FCC8B87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476-F1B1-4341-8E13-8A1B6A8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819-884C-48C5-AA05-7AE8A56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5B156-2170-4062-81FD-FC6ED2C8C1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