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873061"/>
        <c:axId val="28446969"/>
      </c:barChart>
      <c:catAx>
        <c:axId val="687306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8446969"/>
        <c:crosses val="autoZero"/>
        <c:auto val="1"/>
        <c:lblAlgn val="ctr"/>
        <c:lblOffset val="100"/>
        <c:noMultiLvlLbl val="0"/>
      </c:catAx>
      <c:valAx>
        <c:axId val="2844696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87306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0C140-2D5D-4A0C-A75B-1841081D4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6C437-F3E0-462E-9647-C4BE93914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74BD7-879C-406E-BA31-FFED5763A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46D37-9374-4B01-A8BE-7BE22E76F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1F9D7-1FB5-48F1-ABEA-17F29481B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68060-3CF9-4717-B815-34EE23C01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7CFEB-67BE-4C9C-9CF9-432BC5D98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5B96F-C310-401C-8EAC-00C1FF577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45C32-9195-4217-9FCB-73E11B8C7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E7C9A-FFEE-4E73-808F-4936FF75B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9DD6D-9452-4208-9429-29025DE79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05E71-8519-456F-9655-8667FB7F3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43A1AA-3255-43B7-936A-4A4D5E2CE72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