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5043"/>
        <c:axId val="76101726"/>
      </c:barChart>
      <c:catAx>
        <c:axId val="6075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01726"/>
        <c:crosses val="autoZero"/>
        <c:auto val="1"/>
        <c:lblAlgn val="ctr"/>
        <c:lblOffset val="100"/>
        <c:noMultiLvlLbl val="0"/>
      </c:catAx>
      <c:valAx>
        <c:axId val="76101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65-0AD2-46F0-A5F9-746A96C4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F16-9F1D-45D2-908A-8B1EFB3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2D0-FAD6-4D48-8F9E-5FA25CFC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F24-96E4-49A0-86CD-43D1EA0F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9CE-08F5-40EB-A430-D157090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F77-95DB-41F5-A9F9-5F48C9E7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CAB-D51E-4FB5-A462-65575FF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A7C-FA70-44E9-B50E-6F94FC08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FD3-83BE-4B4B-8B02-78D9E47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A46-4A49-444B-BAB9-BD67201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8DB-7AB7-4CBC-B22E-F397ADB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F36-744F-4248-8FBC-30B1F239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5286-B32D-491B-9ED3-3B28BE2A0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