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25958"/>
        <c:axId val="17309957"/>
      </c:barChart>
      <c:catAx>
        <c:axId val="88925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09957"/>
        <c:crosses val="autoZero"/>
        <c:auto val="1"/>
        <c:lblAlgn val="ctr"/>
        <c:lblOffset val="100"/>
        <c:noMultiLvlLbl val="0"/>
      </c:catAx>
      <c:valAx>
        <c:axId val="17309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25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904-F648-4688-9EC6-A3F661A7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7EF-81BB-4EC1-A9D1-98B3C014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118-631A-45D0-893C-8A0581EF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06E-FF2A-4C84-8662-8AAF5E19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A97-4FC2-40B6-B84A-ED9D4603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896-7053-4738-B726-564B0F1C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A511-372D-431F-BC2B-DC276C8B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8C4-879E-45C1-8D0C-2C309A97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6E8-2330-4EF0-A3DD-8F8DF0A7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40C-70E0-49D0-9D68-927CF266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20F-0E7E-41EE-B02E-BDB616FE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2EA-F7FC-4C2F-8EA8-FCD94FDF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72AE0-5E8D-4E73-9895-DC5847F121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