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896846"/>
        <c:axId val="69209821"/>
      </c:barChart>
      <c:catAx>
        <c:axId val="318968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09821"/>
        <c:crosses val="autoZero"/>
        <c:auto val="1"/>
        <c:lblAlgn val="ctr"/>
        <c:lblOffset val="100"/>
        <c:noMultiLvlLbl val="0"/>
      </c:catAx>
      <c:valAx>
        <c:axId val="692098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8968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FDAC-6AA5-4AF8-8637-E90E52DC6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735A-6ECB-41F6-A6AA-25F548C6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2D03-DEBA-4D27-857E-9F0E67D9C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6C94-2B06-4679-AD07-1786D85C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75B6-CC04-4C8D-AFEA-931BF8C7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8657-61A4-451E-86E8-9D0B87E1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D7D9-1926-48A8-8798-3A380B04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6B47-EE83-4873-9344-62F32AF4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01D6-12E2-44F0-A6CF-D3FEEECF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716E-E047-4B6B-AB96-C8E6E9A3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51EE-7082-4E66-973C-72FB4C08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70EC-B99A-41D9-B88B-6EED6652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7A7CD-C7F1-4DC0-A44B-64E87D1793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