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2183"/>
        <c:axId val="93207597"/>
      </c:barChart>
      <c:catAx>
        <c:axId val="37492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07597"/>
        <c:crosses val="autoZero"/>
        <c:auto val="1"/>
        <c:lblAlgn val="ctr"/>
        <c:lblOffset val="100"/>
        <c:noMultiLvlLbl val="0"/>
      </c:catAx>
      <c:valAx>
        <c:axId val="93207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2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2FE-1EAC-4A22-83C2-A8056E35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54C-1762-4776-8D89-AC0B23E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449-CFC1-4CA9-AE2D-A3E632E1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2E1-7907-4D17-95E7-72D0B2C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056-B336-48B8-BF5A-F84181A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B21-A462-4C44-8E2C-0909868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6B8-1AF6-43E9-86B3-7E865E98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5A8-75EB-4C5F-9DAE-D88FF5A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3BC-63A6-4C90-9E70-ECC1F154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546-CD71-4646-8EB0-86FFA08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FA4-B614-4165-A313-DEE6DDA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46F-0E98-49C3-8D8B-E84A3E3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0DC32-35C4-4AD4-A9E7-89233A301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