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52689"/>
        <c:axId val="14448288"/>
      </c:barChart>
      <c:catAx>
        <c:axId val="40552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48288"/>
        <c:crosses val="autoZero"/>
        <c:auto val="1"/>
        <c:lblAlgn val="ctr"/>
        <c:lblOffset val="100"/>
        <c:noMultiLvlLbl val="0"/>
      </c:catAx>
      <c:valAx>
        <c:axId val="14448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52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047-F2A8-4511-97A2-859C2BE1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90C-B633-4FFB-A474-1877F160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55B-C6C8-428D-A33A-EA01EEAC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D73-DB4C-46B6-8E6A-46D96134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1A5-743A-4160-9010-04484285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EAA-BB9D-4505-86FB-06B64D74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A79-E208-48BA-9218-CF386A23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4AB-6B5B-45CF-951A-45BA3C79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C09-8841-494D-B961-F20E04BF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455-3C08-499E-9294-5CB2D4D9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DE4-4932-4EEB-AC56-C5204A1B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C04-8638-4CAD-AD3F-A56EEFD1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F35CA-7F40-417E-957A-A97BDF0779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